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4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" Target="slide23.xm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60480" y="6553080"/>
            <a:ext cx="6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-</a:t>
            </a:r>
            <a:fld id="{FBD50786-91FC-4EFF-8690-C688EC0A87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7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309680"/>
            <a:ext cx="15667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Economic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Profits Comp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Short-Run Production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Law of Diminishing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Short-Run Productio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Long-Run Productio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Minimum Efficient Scale and Indust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Last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14" action="ppaction://hlinksldjump"/>
          </p:cNvPr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rId15" action="ppaction://hlinksldjump"/>
          </p:cNvPr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interactive_graphs.html" TargetMode="External"/><Relationship Id="rId2" Type="http://schemas.openxmlformats.org/officeDocument/2006/relationships/hyperlink" Target="http://highered.mcgraw-hill.com/sites/0073126632/student_view0/chapter20/interactive_graphs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0/worked_problem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origin_of_the_idea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highered.mcgraw-hill.com/sites/0073126632/student_view0/chapter20/origin_of_the_idea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0/worked_problems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worked_problems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20/worked_problems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origin_of_the_idea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highered.mcgraw-hill.com/sites/0073126632/student_view0/chapter20/origin_of_the_idea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20/origin_of_the_idea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highered.mcgraw-hill.com/sites/0073126632/student_view0/chapter20/origin_of_the_idea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3680" y="304920"/>
            <a:ext cx="216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20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98600" y="3824280"/>
            <a:ext cx="5807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64240" y="287280"/>
            <a:ext cx="387180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47360" y="72396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Total Cost, Fixed and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376360" y="1316160"/>
            <a:ext cx="5749920" cy="5033520"/>
            <a:chOff x="2376360" y="1316160"/>
            <a:chExt cx="5749920" cy="5033520"/>
          </a:xfrm>
        </p:grpSpPr>
        <p:sp>
          <p:nvSpPr>
            <p:cNvPr id="298" name=""/>
            <p:cNvSpPr/>
            <p:nvPr/>
          </p:nvSpPr>
          <p:spPr>
            <a:xfrm rot="16200000">
              <a:off x="2153160" y="35647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251160" y="5976720"/>
              <a:ext cx="4470120" cy="340200"/>
              <a:chOff x="3251160" y="5976720"/>
              <a:chExt cx="4470120" cy="340200"/>
            </a:xfrm>
          </p:grpSpPr>
          <p:sp>
            <p:nvSpPr>
              <p:cNvPr id="300" name=""/>
              <p:cNvSpPr/>
              <p:nvPr/>
            </p:nvSpPr>
            <p:spPr>
              <a:xfrm>
                <a:off x="3665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73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9244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89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97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05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13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21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29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14840" y="5976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51160" y="5976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408120" y="1476000"/>
              <a:ext cx="4489200" cy="4496760"/>
              <a:chOff x="3408120" y="1476000"/>
              <a:chExt cx="4489200" cy="449676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3408120" y="1476000"/>
                <a:ext cx="4481640" cy="4496760"/>
                <a:chOff x="3408120" y="1476000"/>
                <a:chExt cx="4481640" cy="4496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408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14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22280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628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37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43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496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257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643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0754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481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897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409920" y="1480320"/>
                <a:ext cx="4487400" cy="4481280"/>
                <a:chOff x="3409920" y="1480320"/>
                <a:chExt cx="4487400" cy="4481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9920" y="59616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09920" y="5555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409920" y="514728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09920" y="4741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409920" y="43329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409920" y="3926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09920" y="35204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409920" y="3112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409920" y="27057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409920" y="22946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409920" y="1888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09920" y="14803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3398760" y="1466640"/>
              <a:ext cx="4506840" cy="4496760"/>
              <a:chOff x="3398760" y="1466640"/>
              <a:chExt cx="4506840" cy="4496760"/>
            </a:xfrm>
          </p:grpSpPr>
          <p:sp>
            <p:nvSpPr>
              <p:cNvPr id="339" name=""/>
              <p:cNvSpPr/>
              <p:nvPr/>
            </p:nvSpPr>
            <p:spPr>
              <a:xfrm>
                <a:off x="3409920" y="595224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398760" y="1466640"/>
                <a:ext cx="0" cy="449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767360" y="598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682720" y="1316160"/>
              <a:ext cx="744480" cy="4402440"/>
              <a:chOff x="2682720" y="1316160"/>
              <a:chExt cx="744480" cy="4402440"/>
            </a:xfrm>
          </p:grpSpPr>
          <p:sp>
            <p:nvSpPr>
              <p:cNvPr id="343" name=""/>
              <p:cNvSpPr/>
              <p:nvPr/>
            </p:nvSpPr>
            <p:spPr>
              <a:xfrm>
                <a:off x="2908080" y="53812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08080" y="49780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08080" y="45637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08080" y="41605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08080" y="37573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08080" y="3354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08080" y="2939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08080" y="2536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08080" y="21333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95400" y="17190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82720" y="13161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3406680" y="5551560"/>
            <a:ext cx="415944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45360" y="5522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14600" y="2111400"/>
            <a:ext cx="4094280" cy="3832200"/>
          </a:xfrm>
          <a:custGeom>
            <a:avLst/>
            <a:gdLst/>
            <a:ahLst/>
            <a:rect l="l" t="t" r="r" b="b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4600" y="1719360"/>
            <a:ext cx="4094280" cy="3832200"/>
          </a:xfrm>
          <a:custGeom>
            <a:avLst/>
            <a:gdLst/>
            <a:ahLst/>
            <a:rect l="l" t="t" r="r" b="b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19960" y="1690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17000" y="22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30360" y="4564080"/>
            <a:ext cx="72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88080" y="3505320"/>
            <a:ext cx="284040" cy="2406600"/>
          </a:xfrm>
          <a:custGeom>
            <a:avLst/>
            <a:gdLst>
              <a:gd name="textAreaLeft" fmla="*/ 181440 w 284040"/>
              <a:gd name="textAreaRight" fmla="*/ 284040 w 284040"/>
              <a:gd name="textAreaTop" fmla="*/ 62640 h 2406600"/>
              <a:gd name="textAreaBottom" fmla="*/ 2343960 h 240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084720" y="3871800"/>
            <a:ext cx="284400" cy="2036880"/>
          </a:xfrm>
          <a:custGeom>
            <a:avLst/>
            <a:gdLst>
              <a:gd name="textAreaLeft" fmla="*/ 181800 w 284400"/>
              <a:gd name="textAreaRight" fmla="*/ 284760 w 284400"/>
              <a:gd name="textAreaTop" fmla="*/ 52920 h 2036880"/>
              <a:gd name="textAreaBottom" fmla="*/ 1983960 h 203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092280" y="3492360"/>
            <a:ext cx="284040" cy="360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605480"/>
            <a:ext cx="106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43560" y="3535200"/>
            <a:ext cx="777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18000" y="4551480"/>
            <a:ext cx="465120" cy="2379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92960" y="2836800"/>
            <a:ext cx="465120" cy="2383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5393 L -2.22222E-006 3.33333E-006 E">
                                      <p:cBhvr>
                                        <p:cTn id="57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71520" y="72396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Average and Margin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376360" y="1303200"/>
            <a:ext cx="5749920" cy="5046840"/>
            <a:chOff x="2376360" y="1303200"/>
            <a:chExt cx="5749920" cy="5046840"/>
          </a:xfrm>
        </p:grpSpPr>
        <p:sp>
          <p:nvSpPr>
            <p:cNvPr id="371" name=""/>
            <p:cNvSpPr/>
            <p:nvPr/>
          </p:nvSpPr>
          <p:spPr>
            <a:xfrm rot="16200000">
              <a:off x="2153160" y="3565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251160" y="5977080"/>
              <a:ext cx="4470120" cy="340200"/>
              <a:chOff x="3251160" y="5977080"/>
              <a:chExt cx="4470120" cy="340200"/>
            </a:xfrm>
          </p:grpSpPr>
          <p:sp>
            <p:nvSpPr>
              <p:cNvPr id="373" name=""/>
              <p:cNvSpPr/>
              <p:nvPr/>
            </p:nvSpPr>
            <p:spPr>
              <a:xfrm>
                <a:off x="3665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7340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924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89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97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05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13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21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29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14840" y="59770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251160" y="5977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408480" y="1476360"/>
              <a:ext cx="4481280" cy="4497120"/>
              <a:chOff x="3408480" y="1476360"/>
              <a:chExt cx="4481280" cy="4497120"/>
            </a:xfrm>
          </p:grpSpPr>
          <p:sp>
            <p:nvSpPr>
              <p:cNvPr id="385" name=""/>
              <p:cNvSpPr/>
              <p:nvPr/>
            </p:nvSpPr>
            <p:spPr>
              <a:xfrm>
                <a:off x="34084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14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2280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28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371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43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496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57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643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754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81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8897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409920" y="1468440"/>
              <a:ext cx="4487760" cy="4495680"/>
              <a:chOff x="3409920" y="1468440"/>
              <a:chExt cx="4487760" cy="4495680"/>
            </a:xfrm>
          </p:grpSpPr>
          <p:sp>
            <p:nvSpPr>
              <p:cNvPr id="398" name=""/>
              <p:cNvSpPr/>
              <p:nvPr/>
            </p:nvSpPr>
            <p:spPr>
              <a:xfrm>
                <a:off x="3409920" y="596412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09920" y="484020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09920" y="37148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09920" y="259236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09920" y="14684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398760" y="1467000"/>
              <a:ext cx="4506840" cy="4497120"/>
              <a:chOff x="3398760" y="1467000"/>
              <a:chExt cx="4506840" cy="4497120"/>
            </a:xfrm>
          </p:grpSpPr>
          <p:sp>
            <p:nvSpPr>
              <p:cNvPr id="404" name=""/>
              <p:cNvSpPr/>
              <p:nvPr/>
            </p:nvSpPr>
            <p:spPr>
              <a:xfrm>
                <a:off x="3409920" y="595296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98760" y="1467000"/>
                <a:ext cx="0" cy="449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767360" y="59817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786040" y="1303200"/>
              <a:ext cx="631800" cy="3712320"/>
              <a:chOff x="2786040" y="1303200"/>
              <a:chExt cx="631800" cy="3712320"/>
            </a:xfrm>
          </p:grpSpPr>
          <p:sp>
            <p:nvSpPr>
              <p:cNvPr id="408" name=""/>
              <p:cNvSpPr/>
              <p:nvPr/>
            </p:nvSpPr>
            <p:spPr>
              <a:xfrm>
                <a:off x="3011400" y="4678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898720" y="35384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98720" y="2421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86040" y="13032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3852720" y="3821040"/>
            <a:ext cx="3637080" cy="511200"/>
          </a:xfrm>
          <a:custGeom>
            <a:avLst/>
            <a:gdLst/>
            <a:ahLst/>
            <a:rect l="l" t="t" r="r" b="b"/>
            <a:pathLst>
              <a:path w="2291" h="322">
                <a:moveTo>
                  <a:pt x="0" y="41"/>
                </a:moveTo>
                <a:cubicBezTo>
                  <a:pt x="310" y="181"/>
                  <a:pt x="620" y="322"/>
                  <a:pt x="1002" y="315"/>
                </a:cubicBezTo>
                <a:cubicBezTo>
                  <a:pt x="1384" y="308"/>
                  <a:pt x="1837" y="154"/>
                  <a:pt x="229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1698480"/>
            <a:ext cx="3668760" cy="2252880"/>
          </a:xfrm>
          <a:custGeom>
            <a:avLst/>
            <a:gdLst/>
            <a:ahLst/>
            <a:rect l="l" t="t" r="r" b="b"/>
            <a:pathLst>
              <a:path w="2311" h="1419">
                <a:moveTo>
                  <a:pt x="0" y="0"/>
                </a:moveTo>
                <a:cubicBezTo>
                  <a:pt x="88" y="237"/>
                  <a:pt x="177" y="475"/>
                  <a:pt x="261" y="651"/>
                </a:cubicBezTo>
                <a:cubicBezTo>
                  <a:pt x="345" y="827"/>
                  <a:pt x="421" y="953"/>
                  <a:pt x="507" y="1056"/>
                </a:cubicBezTo>
                <a:cubicBezTo>
                  <a:pt x="593" y="1159"/>
                  <a:pt x="621" y="1210"/>
                  <a:pt x="775" y="1268"/>
                </a:cubicBezTo>
                <a:cubicBezTo>
                  <a:pt x="929" y="1326"/>
                  <a:pt x="1177" y="1419"/>
                  <a:pt x="1433" y="1405"/>
                </a:cubicBezTo>
                <a:cubicBezTo>
                  <a:pt x="1689" y="1391"/>
                  <a:pt x="2000" y="1288"/>
                  <a:pt x="2311" y="1186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75040" y="2416320"/>
            <a:ext cx="3603600" cy="2030400"/>
          </a:xfrm>
          <a:custGeom>
            <a:avLst/>
            <a:gdLst/>
            <a:ahLst/>
            <a:rect l="l" t="t" r="r" b="b"/>
            <a:pathLst>
              <a:path w="2270" h="1279">
                <a:moveTo>
                  <a:pt x="0" y="919"/>
                </a:moveTo>
                <a:cubicBezTo>
                  <a:pt x="242" y="1099"/>
                  <a:pt x="484" y="1279"/>
                  <a:pt x="734" y="1269"/>
                </a:cubicBezTo>
                <a:cubicBezTo>
                  <a:pt x="984" y="1259"/>
                  <a:pt x="1246" y="1069"/>
                  <a:pt x="1502" y="857"/>
                </a:cubicBezTo>
                <a:cubicBezTo>
                  <a:pt x="1758" y="645"/>
                  <a:pt x="2014" y="322"/>
                  <a:pt x="2270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657600"/>
            <a:ext cx="3668760" cy="2046240"/>
          </a:xfrm>
          <a:custGeom>
            <a:avLst/>
            <a:gdLst/>
            <a:ahLst/>
            <a:rect l="l" t="t" r="r" b="b"/>
            <a:pathLst>
              <a:path w="2311" h="1289">
                <a:moveTo>
                  <a:pt x="0" y="0"/>
                </a:moveTo>
                <a:cubicBezTo>
                  <a:pt x="63" y="284"/>
                  <a:pt x="126" y="569"/>
                  <a:pt x="254" y="747"/>
                </a:cubicBezTo>
                <a:cubicBezTo>
                  <a:pt x="382" y="925"/>
                  <a:pt x="425" y="980"/>
                  <a:pt x="768" y="1070"/>
                </a:cubicBezTo>
                <a:cubicBezTo>
                  <a:pt x="1111" y="1160"/>
                  <a:pt x="1711" y="1224"/>
                  <a:pt x="2311" y="1289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23200" y="552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2000" y="218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50200" y="3352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49120" y="3637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473080" y="4351320"/>
            <a:ext cx="284040" cy="1557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37680" y="4971960"/>
            <a:ext cx="662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469840" y="3848040"/>
            <a:ext cx="284040" cy="457200"/>
          </a:xfrm>
          <a:custGeom>
            <a:avLst/>
            <a:gdLst>
              <a:gd name="textAreaLeft" fmla="*/ 181440 w 284040"/>
              <a:gd name="textAreaRight" fmla="*/ 284040 w 2840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40560" y="3246480"/>
            <a:ext cx="65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748480" y="3527280"/>
            <a:ext cx="325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200440" y="5880240"/>
            <a:ext cx="717120" cy="729000"/>
            <a:chOff x="8200440" y="5880240"/>
            <a:chExt cx="717120" cy="729000"/>
          </a:xfrm>
        </p:grpSpPr>
        <p:sp>
          <p:nvSpPr>
            <p:cNvPr id="426" name="">
              <a:hlinkClick r:id="rId1"/>
            </p:cNvPr>
            <p:cNvSpPr/>
            <p:nvPr/>
          </p:nvSpPr>
          <p:spPr>
            <a:xfrm>
              <a:off x="8200440" y="63021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2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364600" y="588024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52120" y="790200"/>
            <a:ext cx="70866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C and Marginal Produc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ginal Decision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Relation of MC to AVC and ATC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Relationship Between Productivity Curves and Cost Curv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hifts in Cost Curve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raphically…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8161200" y="1498680"/>
            <a:ext cx="746280" cy="710280"/>
            <a:chOff x="8161200" y="1498680"/>
            <a:chExt cx="746280" cy="710280"/>
          </a:xfrm>
        </p:grpSpPr>
        <p:pic>
          <p:nvPicPr>
            <p:cNvPr id="43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50120" y="149868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>
              <a:hlinkClick r:id="rId3"/>
            </p:cNvPr>
            <p:cNvSpPr/>
            <p:nvPr/>
          </p:nvSpPr>
          <p:spPr>
            <a:xfrm>
              <a:off x="8161200" y="19018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0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indefinite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1865160" y="944640"/>
            <a:ext cx="6089760" cy="5315040"/>
            <a:chOff x="1865160" y="944640"/>
            <a:chExt cx="6089760" cy="5315040"/>
          </a:xfrm>
        </p:grpSpPr>
        <p:sp>
          <p:nvSpPr>
            <p:cNvPr id="434" name=""/>
            <p:cNvSpPr/>
            <p:nvPr/>
          </p:nvSpPr>
          <p:spPr>
            <a:xfrm>
              <a:off x="2643120" y="944640"/>
              <a:ext cx="5311800" cy="2384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39880" y="3875040"/>
              <a:ext cx="5311800" cy="2384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00000">
              <a:off x="1046160" y="1836720"/>
              <a:ext cx="22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Product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1524600" y="4861800"/>
              <a:ext cx="15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06640" y="1227240"/>
            <a:ext cx="3581640" cy="1939680"/>
          </a:xfrm>
          <a:custGeom>
            <a:avLst/>
            <a:gdLst/>
            <a:ahLst/>
            <a:rect l="l" t="t" r="r" b="b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914560" y="4090320"/>
            <a:ext cx="3581640" cy="1940040"/>
          </a:xfrm>
          <a:custGeom>
            <a:avLst/>
            <a:gdLst/>
            <a:ahLst/>
            <a:rect l="l" t="t" r="r" b="b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76480" y="1725480"/>
            <a:ext cx="4442040" cy="1276560"/>
          </a:xfrm>
          <a:custGeom>
            <a:avLst/>
            <a:gdLst/>
            <a:ahLst/>
            <a:rect l="l" t="t" r="r" b="b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973240" y="4267080"/>
            <a:ext cx="4442040" cy="1276560"/>
          </a:xfrm>
          <a:custGeom>
            <a:avLst/>
            <a:gdLst/>
            <a:ahLst/>
            <a:rect l="l" t="t" r="r" b="b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05560" y="2932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80360" y="263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80360" y="38847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44280" y="4103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16400" y="1273320"/>
            <a:ext cx="0" cy="4986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8480" y="1738440"/>
            <a:ext cx="0" cy="4529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45120" y="12412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43680" y="16714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5120" y="543240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46560" y="58770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87000" y="62658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81600" y="3373560"/>
            <a:ext cx="186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7880" y="62244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roduction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8960" y="35305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ost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52120" y="772920"/>
            <a:ext cx="70866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irm Size and Cos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Long-Run Cost Curv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conomies of Sca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abor Specializatio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anagerial Specializatio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fficient Capital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iseconomies of Sca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stant Returns to Sca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37240" y="71424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Long-Run ATC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1360" y="5386320"/>
            <a:ext cx="659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Any Number of Short-Run Opt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ize Cost Curves Can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37240" y="71424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Long-Run ATC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667400">
            <a:off x="3191040" y="2789280"/>
            <a:ext cx="109980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73400">
            <a:off x="4451400" y="310500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9965600">
            <a:off x="6558120" y="247788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20551800">
            <a:off x="5473800" y="302724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243560" y="266688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38280" y="2255760"/>
            <a:ext cx="5519880" cy="1271520"/>
          </a:xfrm>
          <a:custGeom>
            <a:avLst/>
            <a:gdLst/>
            <a:ahLst/>
            <a:rect l="l" t="t" r="r" b="b"/>
            <a:pathLst>
              <a:path w="3477" h="801">
                <a:moveTo>
                  <a:pt x="0" y="240"/>
                </a:moveTo>
                <a:cubicBezTo>
                  <a:pt x="684" y="520"/>
                  <a:pt x="1368" y="801"/>
                  <a:pt x="1947" y="761"/>
                </a:cubicBezTo>
                <a:cubicBezTo>
                  <a:pt x="2526" y="721"/>
                  <a:pt x="3001" y="360"/>
                  <a:pt x="3477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71000" y="5386320"/>
            <a:ext cx="57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 Long-Run ATC Curve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velopes” the Short Run A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37240" y="71424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Long-Run ATC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67400">
            <a:off x="3191040" y="2789280"/>
            <a:ext cx="109980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73400">
            <a:off x="4451400" y="310500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965600">
            <a:off x="6558120" y="2477880"/>
            <a:ext cx="1100160" cy="33012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20551800">
            <a:off x="5473800" y="3027240"/>
            <a:ext cx="1100160" cy="330480"/>
          </a:xfrm>
          <a:custGeom>
            <a:avLst/>
            <a:gdLst/>
            <a:ahLst/>
            <a:rect l="l" t="t" r="r" b="b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43560" y="266688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2255760"/>
            <a:ext cx="5519880" cy="1271520"/>
          </a:xfrm>
          <a:custGeom>
            <a:avLst/>
            <a:gdLst/>
            <a:ahLst/>
            <a:rect l="l" t="t" r="r" b="b"/>
            <a:pathLst>
              <a:path w="3477" h="801">
                <a:moveTo>
                  <a:pt x="0" y="240"/>
                </a:moveTo>
                <a:cubicBezTo>
                  <a:pt x="684" y="520"/>
                  <a:pt x="1368" y="801"/>
                  <a:pt x="1947" y="761"/>
                </a:cubicBezTo>
                <a:cubicBezTo>
                  <a:pt x="2526" y="721"/>
                  <a:pt x="3001" y="360"/>
                  <a:pt x="3477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71000" y="5386320"/>
            <a:ext cx="57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 Long-Run ATC Curve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velopes” the Short Run A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02240" y="7142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Alternative Long-Run ATC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73440" y="5386320"/>
            <a:ext cx="69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Of Scale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589040"/>
            <a:ext cx="1523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81840" y="1585800"/>
            <a:ext cx="152388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1585800"/>
            <a:ext cx="3101760" cy="301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613240" y="882720"/>
            <a:ext cx="5483160" cy="2657160"/>
            <a:chOff x="2613240" y="882720"/>
            <a:chExt cx="5483160" cy="2657160"/>
          </a:xfrm>
        </p:grpSpPr>
        <p:sp>
          <p:nvSpPr>
            <p:cNvPr id="529" name=""/>
            <p:cNvSpPr/>
            <p:nvPr/>
          </p:nvSpPr>
          <p:spPr>
            <a:xfrm rot="10800000">
              <a:off x="2613240" y="882720"/>
              <a:ext cx="2656800" cy="26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7254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725465"/>
                </a:path>
              </a:pathLst>
            </a:cu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5438160" y="882720"/>
              <a:ext cx="2658240" cy="26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7614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761458"/>
                </a:path>
              </a:pathLst>
            </a:cu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40200" y="3538440"/>
              <a:ext cx="286380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132320" y="34448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5700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2956680" y="1600920"/>
            <a:ext cx="326880" cy="1306440"/>
          </a:xfrm>
          <a:custGeom>
            <a:avLst/>
            <a:gdLst>
              <a:gd name="textAreaLeft" fmla="*/ 208800 w 326880"/>
              <a:gd name="textAreaRight" fmla="*/ 327240 w 326880"/>
              <a:gd name="textAreaTop" fmla="*/ 33840 h 1306440"/>
              <a:gd name="textAreaBottom" fmla="*/ 1272600 h 13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09280" y="808560"/>
            <a:ext cx="326880" cy="2907000"/>
          </a:xfrm>
          <a:custGeom>
            <a:avLst/>
            <a:gdLst>
              <a:gd name="textAreaLeft" fmla="*/ 208800 w 326880"/>
              <a:gd name="textAreaRight" fmla="*/ 327240 w 326880"/>
              <a:gd name="textAreaTop" fmla="*/ 75600 h 2907000"/>
              <a:gd name="textAreaBottom" fmla="*/ 2831400 h 290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7595280" y="1616760"/>
            <a:ext cx="326880" cy="1306440"/>
          </a:xfrm>
          <a:custGeom>
            <a:avLst/>
            <a:gdLst>
              <a:gd name="textAreaLeft" fmla="*/ 208800 w 326880"/>
              <a:gd name="textAreaRight" fmla="*/ 327240 w 326880"/>
              <a:gd name="textAreaTop" fmla="*/ 33840 h 1306440"/>
              <a:gd name="textAreaBottom" fmla="*/ 1272600 h 13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7880" y="1581120"/>
            <a:ext cx="187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98184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93240" y="46944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90320" y="47023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2240" y="7142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Alternative Long-Run ATC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71280" y="5310360"/>
            <a:ext cx="6755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Long-Run ATC Curve Where Cos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Lowest Only When Large Number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1589040"/>
            <a:ext cx="4767120" cy="300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34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4647240" y="319680"/>
            <a:ext cx="326880" cy="3646440"/>
          </a:xfrm>
          <a:custGeom>
            <a:avLst/>
            <a:gdLst>
              <a:gd name="textAreaLeft" fmla="*/ 208800 w 326880"/>
              <a:gd name="textAreaRight" fmla="*/ 327240 w 326880"/>
              <a:gd name="textAreaTop" fmla="*/ 95040 h 3646440"/>
              <a:gd name="textAreaBottom" fmla="*/ 3551400 h 364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126200" y="1585800"/>
            <a:ext cx="1360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7639920" y="1505520"/>
            <a:ext cx="326880" cy="1306800"/>
          </a:xfrm>
          <a:custGeom>
            <a:avLst/>
            <a:gdLst>
              <a:gd name="textAreaLeft" fmla="*/ 208800 w 326880"/>
              <a:gd name="textAreaRight" fmla="*/ 327240 w 326880"/>
              <a:gd name="textAreaTop" fmla="*/ 33840 h 1306800"/>
              <a:gd name="textAreaBottom" fmla="*/ 1272960 h 130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98480" y="160488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48080" y="1893960"/>
            <a:ext cx="5640120" cy="2006640"/>
          </a:xfrm>
          <a:custGeom>
            <a:avLst/>
            <a:gdLst/>
            <a:ahLst/>
            <a:rect l="l" t="t" r="r" b="b"/>
            <a:pathLst>
              <a:path w="4005" h="1374">
                <a:moveTo>
                  <a:pt x="0" y="0"/>
                </a:moveTo>
                <a:cubicBezTo>
                  <a:pt x="1007" y="506"/>
                  <a:pt x="2014" y="1012"/>
                  <a:pt x="2681" y="1193"/>
                </a:cubicBezTo>
                <a:cubicBezTo>
                  <a:pt x="3348" y="1374"/>
                  <a:pt x="3676" y="1229"/>
                  <a:pt x="4005" y="1084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132320" y="390060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867960"/>
            <a:ext cx="717732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hy Do Economic Costs Include Both Explicit Costs and Implicit Cos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ow Does the Law of Diminishing Returns Relate to a Firm’s Short-Run Production Cos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earn the Distinctions Between Fixed and Variable Costs and Among Total, Average, and Marginal Cos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earn the Link Between a Firm’s Size and Its Average Costs in the Long Ru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18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02240" y="7142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Alternative Long-Run ATC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73440" y="5310360"/>
            <a:ext cx="6967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Of Scale Exist, are Exhausted Quick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And Turn Back Up Substa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37120" y="22352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62320" y="1589040"/>
            <a:ext cx="1631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23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3045600" y="1600920"/>
            <a:ext cx="326880" cy="1306440"/>
          </a:xfrm>
          <a:custGeom>
            <a:avLst/>
            <a:gdLst>
              <a:gd name="textAreaLeft" fmla="*/ 208800 w 326880"/>
              <a:gd name="textAreaRight" fmla="*/ 327240 w 326880"/>
              <a:gd name="textAreaTop" fmla="*/ 33840 h 1306440"/>
              <a:gd name="textAreaBottom" fmla="*/ 1272600 h 13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2400" y="1585800"/>
            <a:ext cx="1981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57440" y="1916280"/>
            <a:ext cx="3321000" cy="2339640"/>
          </a:xfrm>
          <a:custGeom>
            <a:avLst/>
            <a:gdLst/>
            <a:ahLst/>
            <a:rect l="l" t="t" r="r" b="b"/>
            <a:pathLst>
              <a:path w="1207" h="1474">
                <a:moveTo>
                  <a:pt x="0" y="41"/>
                </a:moveTo>
                <a:cubicBezTo>
                  <a:pt x="167" y="757"/>
                  <a:pt x="334" y="1474"/>
                  <a:pt x="535" y="1467"/>
                </a:cubicBezTo>
                <a:cubicBezTo>
                  <a:pt x="736" y="1460"/>
                  <a:pt x="971" y="730"/>
                  <a:pt x="1207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4828320" y="1616760"/>
            <a:ext cx="326880" cy="1306440"/>
          </a:xfrm>
          <a:custGeom>
            <a:avLst/>
            <a:gdLst>
              <a:gd name="textAreaLeft" fmla="*/ 208800 w 326880"/>
              <a:gd name="textAreaRight" fmla="*/ 327240 w 326880"/>
              <a:gd name="textAreaTop" fmla="*/ 33840 h 1306440"/>
              <a:gd name="textAreaBottom" fmla="*/ 1272600 h 13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1488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um Efficient Scale and Industry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153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inimum Efficient Scale (MES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atural Monopol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pplications and Illustra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ising Cost of Insurance and Securit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ccessful Start-Up Firm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erson Stamping Machin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Daily Newspape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ircraft and Concrete Plan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101800" y="1450800"/>
            <a:ext cx="717120" cy="694440"/>
            <a:chOff x="8101800" y="1450800"/>
            <a:chExt cx="717120" cy="694440"/>
          </a:xfrm>
        </p:grpSpPr>
        <p:pic>
          <p:nvPicPr>
            <p:cNvPr id="57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53360" y="145080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>
              <a:hlinkClick r:id="rId3"/>
            </p:cNvPr>
            <p:cNvSpPr/>
            <p:nvPr/>
          </p:nvSpPr>
          <p:spPr>
            <a:xfrm>
              <a:off x="8101800" y="18381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0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indefinite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10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39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Cry Over Sunk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752120" y="1615680"/>
            <a:ext cx="7086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unk Costs Irrelevant in Decision Making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nce Incurred, They Cannot Be Recovered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mpare Marginal Analysis to Find MC and MB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eviously Incurred Costs Do Not Impact the MB=MC Decisio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unk Costs Are Irrelevant!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20204400">
            <a:off x="1620720" y="620280"/>
            <a:ext cx="1325520" cy="986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725480" y="828720"/>
            <a:ext cx="7108920" cy="5692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economic (opportunity) cost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explicit costs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implicit costs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normal profit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economic profit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short run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long run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total product (TP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marginal product (MP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average product (AP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law of diminishing returns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fixed costs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0400" y="990720"/>
            <a:ext cx="3579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variable costs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total cost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verage fixed cost (AFC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verage variable cost (AVC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verage total cost (ATC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marginal cost (MC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conomies of scale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diseconomies of scale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constant returns to scale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minimum efficient scale (MES)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natural monopoly</a:t>
            </a:r>
            <a:endParaRPr b="1" lang="en-US" sz="2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419720" y="421308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21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3" name=""/>
          <p:cNvSpPr/>
          <p:nvPr/>
        </p:nvSpPr>
        <p:spPr>
          <a:xfrm>
            <a:off x="1874880" y="3300480"/>
            <a:ext cx="50698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rcRect l="0" t="655" r="1763" b="0"/>
          <a:stretch/>
        </p:blipFill>
        <p:spPr>
          <a:xfrm>
            <a:off x="4718160" y="806400"/>
            <a:ext cx="363384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conomic Cos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934560"/>
            <a:ext cx="708660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conomic Cos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Opportunity Cos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xplicit Cost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Implicit Cost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Normal Profit as a Cos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conomic or Pure Profit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39160" y="5249880"/>
            <a:ext cx="6938280" cy="970920"/>
            <a:chOff x="1739160" y="5249880"/>
            <a:chExt cx="6938280" cy="970920"/>
          </a:xfrm>
        </p:grpSpPr>
        <p:sp>
          <p:nvSpPr>
            <p:cNvPr id="66" name=""/>
            <p:cNvSpPr/>
            <p:nvPr/>
          </p:nvSpPr>
          <p:spPr>
            <a:xfrm>
              <a:off x="1739160" y="5249880"/>
              <a:ext cx="212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72200" y="5249880"/>
              <a:ext cx="1873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5240" y="5249880"/>
              <a:ext cx="212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27880" y="538164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24760" y="53150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161200" y="5921280"/>
            <a:ext cx="746280" cy="710280"/>
            <a:chOff x="8161200" y="5921280"/>
            <a:chExt cx="746280" cy="710280"/>
          </a:xfrm>
        </p:grpSpPr>
        <p:pic>
          <p:nvPicPr>
            <p:cNvPr id="7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50120" y="592128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>
              <a:hlinkClick r:id="rId3"/>
            </p:cNvPr>
            <p:cNvSpPr/>
            <p:nvPr/>
          </p:nvSpPr>
          <p:spPr>
            <a:xfrm>
              <a:off x="8161200" y="63244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fits Compare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2600" y="858960"/>
            <a:ext cx="69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Economic Profit Versus Accounting Pro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8200" y="1914480"/>
            <a:ext cx="1638360" cy="601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92720" y="3086280"/>
            <a:ext cx="1638360" cy="1171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(Expl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91280" y="1908000"/>
            <a:ext cx="1638360" cy="11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8200" y="3086280"/>
            <a:ext cx="1638360" cy="1171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8200" y="2517840"/>
            <a:ext cx="1638360" cy="569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cluding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1928880" y="2680200"/>
            <a:ext cx="16437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port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800600" y="2913120"/>
            <a:ext cx="174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60960" y="1900080"/>
            <a:ext cx="311040" cy="2352960"/>
          </a:xfrm>
          <a:custGeom>
            <a:avLst/>
            <a:gdLst>
              <a:gd name="textAreaLeft" fmla="*/ 0 w 311040"/>
              <a:gd name="textAreaRight" fmla="*/ 112320 w 311040"/>
              <a:gd name="textAreaTop" fmla="*/ 61200 h 2352960"/>
              <a:gd name="textAreaBottom" fmla="*/ 2291760 h 23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9080" y="1901880"/>
            <a:ext cx="311040" cy="2352600"/>
          </a:xfrm>
          <a:custGeom>
            <a:avLst/>
            <a:gdLst>
              <a:gd name="textAreaLeft" fmla="*/ 0 w 311040"/>
              <a:gd name="textAreaRight" fmla="*/ 112320 w 31104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54320" y="1909800"/>
            <a:ext cx="311040" cy="2352600"/>
          </a:xfrm>
          <a:custGeom>
            <a:avLst/>
            <a:gdLst>
              <a:gd name="textAreaLeft" fmla="*/ 0 w 311040"/>
              <a:gd name="textAreaRight" fmla="*/ 112320 w 31104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410640" y="1455840"/>
            <a:ext cx="4518720" cy="461160"/>
            <a:chOff x="3410640" y="1455840"/>
            <a:chExt cx="4518720" cy="461160"/>
          </a:xfrm>
        </p:grpSpPr>
        <p:sp>
          <p:nvSpPr>
            <p:cNvPr id="87" name=""/>
            <p:cNvSpPr/>
            <p:nvPr/>
          </p:nvSpPr>
          <p:spPr>
            <a:xfrm>
              <a:off x="3410640" y="145584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Econom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73920" y="1457280"/>
              <a:ext cx="18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33"/>
                  </a:solidFill>
                  <a:latin typeface="Arial"/>
                </a:rPr>
                <a:t>Accoun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502080" y="1914480"/>
            <a:ext cx="1638360" cy="2341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99200" y="1914480"/>
            <a:ext cx="1638360" cy="2341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4520" y="4483080"/>
            <a:ext cx="622944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hort Run and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00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Short Run: Fix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00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Long Run: Variable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2327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Run Production Relationshi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112760"/>
            <a:ext cx="70866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Total Product (TP)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arginal Product (MP)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Average Product (AP)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39880" y="5022720"/>
            <a:ext cx="6076800" cy="901080"/>
            <a:chOff x="1739880" y="5022720"/>
            <a:chExt cx="6076800" cy="901080"/>
          </a:xfrm>
        </p:grpSpPr>
        <p:sp>
          <p:nvSpPr>
            <p:cNvPr id="95" name=""/>
            <p:cNvSpPr/>
            <p:nvPr/>
          </p:nvSpPr>
          <p:spPr>
            <a:xfrm>
              <a:off x="1739880" y="515304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erage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419800" y="5022720"/>
              <a:ext cx="2396880" cy="901080"/>
              <a:chOff x="5419800" y="5022720"/>
              <a:chExt cx="2396880" cy="901080"/>
            </a:xfrm>
          </p:grpSpPr>
          <p:sp>
            <p:nvSpPr>
              <p:cNvPr id="97" name=""/>
              <p:cNvSpPr/>
              <p:nvPr/>
            </p:nvSpPr>
            <p:spPr>
              <a:xfrm>
                <a:off x="5545440" y="5022720"/>
                <a:ext cx="214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94680" y="546408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nits of Lab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19800" y="5464080"/>
                <a:ext cx="239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859280" y="5141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42400" y="3892680"/>
            <a:ext cx="7016040" cy="901080"/>
            <a:chOff x="1742400" y="3892680"/>
            <a:chExt cx="7016040" cy="901080"/>
          </a:xfrm>
        </p:grpSpPr>
        <p:sp>
          <p:nvSpPr>
            <p:cNvPr id="102" name=""/>
            <p:cNvSpPr/>
            <p:nvPr/>
          </p:nvSpPr>
          <p:spPr>
            <a:xfrm>
              <a:off x="1742400" y="4044960"/>
              <a:ext cx="30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055840" y="3892680"/>
              <a:ext cx="3702600" cy="901080"/>
              <a:chOff x="5055840" y="3892680"/>
              <a:chExt cx="3702600" cy="901080"/>
            </a:xfrm>
          </p:grpSpPr>
          <p:sp>
            <p:nvSpPr>
              <p:cNvPr id="104" name=""/>
              <p:cNvSpPr/>
              <p:nvPr/>
            </p:nvSpPr>
            <p:spPr>
              <a:xfrm>
                <a:off x="5055840" y="3892680"/>
                <a:ext cx="370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99840" y="4334040"/>
                <a:ext cx="34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Labor Inpu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11640" y="4348080"/>
                <a:ext cx="359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710240" y="40338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161200" y="5921280"/>
            <a:ext cx="746280" cy="710280"/>
            <a:chOff x="8161200" y="5921280"/>
            <a:chExt cx="746280" cy="710280"/>
          </a:xfrm>
        </p:grpSpPr>
        <p:pic>
          <p:nvPicPr>
            <p:cNvPr id="1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50120" y="592128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>
              <a:hlinkClick r:id="rId3"/>
            </p:cNvPr>
            <p:cNvSpPr/>
            <p:nvPr/>
          </p:nvSpPr>
          <p:spPr>
            <a:xfrm>
              <a:off x="8161200" y="63244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2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00880" y="3929040"/>
            <a:ext cx="1217520" cy="642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1960" y="3900600"/>
            <a:ext cx="11941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892760"/>
            <a:ext cx="1241280" cy="642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700600"/>
            <a:ext cx="124128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19360" y="2424240"/>
            <a:ext cx="7130880" cy="3930480"/>
            <a:chOff x="1719360" y="2424240"/>
            <a:chExt cx="7130880" cy="3930480"/>
          </a:xfrm>
        </p:grpSpPr>
        <p:grpSp>
          <p:nvGrpSpPr>
            <p:cNvPr id="116" name=""/>
            <p:cNvGrpSpPr/>
            <p:nvPr/>
          </p:nvGrpSpPr>
          <p:grpSpPr>
            <a:xfrm>
              <a:off x="1719360" y="2424240"/>
              <a:ext cx="7130880" cy="3930480"/>
              <a:chOff x="1719360" y="2424240"/>
              <a:chExt cx="7130880" cy="3930480"/>
            </a:xfrm>
          </p:grpSpPr>
          <p:sp>
            <p:nvSpPr>
              <p:cNvPr id="117" name=""/>
              <p:cNvSpPr/>
              <p:nvPr/>
            </p:nvSpPr>
            <p:spPr>
              <a:xfrm>
                <a:off x="1719360" y="2424240"/>
                <a:ext cx="7130880" cy="1263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19680" y="242424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38920" y="242424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608800" y="2427120"/>
              <a:ext cx="0" cy="125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1240" y="76320"/>
            <a:ext cx="7391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120" y="823680"/>
            <a:ext cx="7086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Rational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abular Exampl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12880" y="2414520"/>
            <a:ext cx="7120080" cy="1259640"/>
            <a:chOff x="1712880" y="2414520"/>
            <a:chExt cx="7120080" cy="1259640"/>
          </a:xfrm>
        </p:grpSpPr>
        <p:sp>
          <p:nvSpPr>
            <p:cNvPr id="124" name=""/>
            <p:cNvSpPr/>
            <p:nvPr/>
          </p:nvSpPr>
          <p:spPr>
            <a:xfrm>
              <a:off x="1712880" y="2647800"/>
              <a:ext cx="224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ts of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riable 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ab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6520" y="2881440"/>
              <a:ext cx="16560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26800" y="2414520"/>
              <a:ext cx="204912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2)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52960" y="2414520"/>
              <a:ext cx="108000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/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608560" y="3646440"/>
            <a:ext cx="3070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61560" y="3643200"/>
            <a:ext cx="4338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0" y="3784680"/>
            <a:ext cx="433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07040" y="3639960"/>
            <a:ext cx="7524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900680" y="3718080"/>
            <a:ext cx="936720" cy="2563920"/>
            <a:chOff x="4900680" y="3718080"/>
            <a:chExt cx="936720" cy="2563920"/>
          </a:xfrm>
        </p:grpSpPr>
        <p:grpSp>
          <p:nvGrpSpPr>
            <p:cNvPr id="133" name=""/>
            <p:cNvGrpSpPr/>
            <p:nvPr/>
          </p:nvGrpSpPr>
          <p:grpSpPr>
            <a:xfrm>
              <a:off x="4900680" y="3718080"/>
              <a:ext cx="936720" cy="474840"/>
              <a:chOff x="4900680" y="3718080"/>
              <a:chExt cx="93672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900680" y="371808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51520" y="39974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900680" y="4025880"/>
              <a:ext cx="936720" cy="474840"/>
              <a:chOff x="4900680" y="4025880"/>
              <a:chExt cx="936720" cy="474840"/>
            </a:xfrm>
          </p:grpSpPr>
          <p:sp>
            <p:nvSpPr>
              <p:cNvPr id="137" name=""/>
              <p:cNvSpPr/>
              <p:nvPr/>
            </p:nvSpPr>
            <p:spPr>
              <a:xfrm>
                <a:off x="4900680" y="402588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51520" y="43052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00680" y="4322880"/>
              <a:ext cx="936720" cy="474840"/>
              <a:chOff x="4900680" y="4322880"/>
              <a:chExt cx="936720" cy="474840"/>
            </a:xfrm>
          </p:grpSpPr>
          <p:sp>
            <p:nvSpPr>
              <p:cNvPr id="140" name=""/>
              <p:cNvSpPr/>
              <p:nvPr/>
            </p:nvSpPr>
            <p:spPr>
              <a:xfrm>
                <a:off x="4900680" y="432288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51520" y="46022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900680" y="4619520"/>
              <a:ext cx="936720" cy="474840"/>
              <a:chOff x="4900680" y="4619520"/>
              <a:chExt cx="936720" cy="474840"/>
            </a:xfrm>
          </p:grpSpPr>
          <p:sp>
            <p:nvSpPr>
              <p:cNvPr id="143" name=""/>
              <p:cNvSpPr/>
              <p:nvPr/>
            </p:nvSpPr>
            <p:spPr>
              <a:xfrm>
                <a:off x="4900680" y="46195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51520" y="48988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900680" y="4916520"/>
              <a:ext cx="936720" cy="474840"/>
              <a:chOff x="4900680" y="4916520"/>
              <a:chExt cx="936720" cy="474840"/>
            </a:xfrm>
          </p:grpSpPr>
          <p:sp>
            <p:nvSpPr>
              <p:cNvPr id="146" name=""/>
              <p:cNvSpPr/>
              <p:nvPr/>
            </p:nvSpPr>
            <p:spPr>
              <a:xfrm>
                <a:off x="4900680" y="49165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51520" y="51958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900680" y="5213520"/>
              <a:ext cx="936720" cy="474840"/>
              <a:chOff x="4900680" y="5213520"/>
              <a:chExt cx="936720" cy="474840"/>
            </a:xfrm>
          </p:grpSpPr>
          <p:sp>
            <p:nvSpPr>
              <p:cNvPr id="149" name=""/>
              <p:cNvSpPr/>
              <p:nvPr/>
            </p:nvSpPr>
            <p:spPr>
              <a:xfrm>
                <a:off x="4900680" y="52135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51520" y="54928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900680" y="5510160"/>
              <a:ext cx="936720" cy="474840"/>
              <a:chOff x="4900680" y="5510160"/>
              <a:chExt cx="936720" cy="474840"/>
            </a:xfrm>
          </p:grpSpPr>
          <p:sp>
            <p:nvSpPr>
              <p:cNvPr id="152" name=""/>
              <p:cNvSpPr/>
              <p:nvPr/>
            </p:nvSpPr>
            <p:spPr>
              <a:xfrm>
                <a:off x="4900680" y="55101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1520" y="57895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900680" y="5807160"/>
              <a:ext cx="936720" cy="474840"/>
              <a:chOff x="4900680" y="5807160"/>
              <a:chExt cx="936720" cy="474840"/>
            </a:xfrm>
          </p:grpSpPr>
          <p:sp>
            <p:nvSpPr>
              <p:cNvPr id="155" name=""/>
              <p:cNvSpPr/>
              <p:nvPr/>
            </p:nvSpPr>
            <p:spPr>
              <a:xfrm>
                <a:off x="4900680" y="58071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51520" y="60865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428880" y="4886280"/>
            <a:ext cx="13388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5840" y="5672160"/>
            <a:ext cx="10249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19800" y="3903840"/>
            <a:ext cx="166680" cy="691920"/>
          </a:xfrm>
          <a:custGeom>
            <a:avLst/>
            <a:gdLst>
              <a:gd name="textAreaLeft" fmla="*/ 0 w 166680"/>
              <a:gd name="textAreaRight" fmla="*/ 60120 w 166680"/>
              <a:gd name="textAreaTop" fmla="*/ 18000 h 691920"/>
              <a:gd name="textAreaBottom" fmla="*/ 6739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19800" y="4627440"/>
            <a:ext cx="166680" cy="1187640"/>
          </a:xfrm>
          <a:custGeom>
            <a:avLst/>
            <a:gdLst>
              <a:gd name="textAreaLeft" fmla="*/ 0 w 166680"/>
              <a:gd name="textAreaRight" fmla="*/ 60120 w 16668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19800" y="5846760"/>
            <a:ext cx="166680" cy="355680"/>
          </a:xfrm>
          <a:custGeom>
            <a:avLst/>
            <a:gdLst>
              <a:gd name="textAreaLeft" fmla="*/ 0 w 166680"/>
              <a:gd name="textAreaRight" fmla="*/ 60120 w 166680"/>
              <a:gd name="textAreaTop" fmla="*/ 9000 h 355680"/>
              <a:gd name="textAreaBottom" fmla="*/ 34668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101800" y="806400"/>
            <a:ext cx="717120" cy="694440"/>
            <a:chOff x="8101800" y="806400"/>
            <a:chExt cx="717120" cy="694440"/>
          </a:xfrm>
        </p:grpSpPr>
        <p:pic>
          <p:nvPicPr>
            <p:cNvPr id="16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53360" y="80640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>
              <a:hlinkClick r:id="rId3"/>
            </p:cNvPr>
            <p:cNvSpPr/>
            <p:nvPr/>
          </p:nvSpPr>
          <p:spPr>
            <a:xfrm>
              <a:off x="8101800" y="11937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4803840" y="1521000"/>
            <a:ext cx="1625400" cy="4605120"/>
            <a:chOff x="4803840" y="1521000"/>
            <a:chExt cx="1625400" cy="4605120"/>
          </a:xfrm>
        </p:grpSpPr>
        <p:sp>
          <p:nvSpPr>
            <p:cNvPr id="166" name=""/>
            <p:cNvSpPr/>
            <p:nvPr/>
          </p:nvSpPr>
          <p:spPr>
            <a:xfrm>
              <a:off x="4807080" y="1521000"/>
              <a:ext cx="1622160" cy="24066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3840" y="4362480"/>
              <a:ext cx="1622520" cy="1763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3120" y="1517760"/>
            <a:ext cx="1452600" cy="4605120"/>
            <a:chOff x="6423120" y="1517760"/>
            <a:chExt cx="1452600" cy="4605120"/>
          </a:xfrm>
        </p:grpSpPr>
        <p:sp>
          <p:nvSpPr>
            <p:cNvPr id="169" name=""/>
            <p:cNvSpPr/>
            <p:nvPr/>
          </p:nvSpPr>
          <p:spPr>
            <a:xfrm>
              <a:off x="6426360" y="1517760"/>
              <a:ext cx="1449360" cy="2406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3120" y="4359240"/>
              <a:ext cx="1449360" cy="17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787920" y="1523880"/>
            <a:ext cx="1020600" cy="4594320"/>
            <a:chOff x="3787920" y="1523880"/>
            <a:chExt cx="1020600" cy="4594320"/>
          </a:xfrm>
        </p:grpSpPr>
        <p:sp>
          <p:nvSpPr>
            <p:cNvPr id="172" name=""/>
            <p:cNvSpPr/>
            <p:nvPr/>
          </p:nvSpPr>
          <p:spPr>
            <a:xfrm>
              <a:off x="3787920" y="1523880"/>
              <a:ext cx="1012680" cy="2397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95840" y="4354560"/>
              <a:ext cx="1012680" cy="1763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41240" y="76320"/>
            <a:ext cx="7391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690480"/>
            <a:ext cx="7086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Graphical Portrayal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78000" y="1523880"/>
            <a:ext cx="4792680" cy="2726640"/>
            <a:chOff x="3078000" y="1523880"/>
            <a:chExt cx="4792680" cy="2726640"/>
          </a:xfrm>
        </p:grpSpPr>
        <p:grpSp>
          <p:nvGrpSpPr>
            <p:cNvPr id="177" name=""/>
            <p:cNvGrpSpPr/>
            <p:nvPr/>
          </p:nvGrpSpPr>
          <p:grpSpPr>
            <a:xfrm>
              <a:off x="3078000" y="1523880"/>
              <a:ext cx="4791240" cy="2726640"/>
              <a:chOff x="3078000" y="1523880"/>
              <a:chExt cx="4791240" cy="27266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3389040" y="1827360"/>
                <a:ext cx="406440" cy="2257920"/>
                <a:chOff x="3389040" y="1827360"/>
                <a:chExt cx="406440" cy="2257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501720" y="3747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389040" y="310032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89040" y="24638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89040" y="182736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 rot="16200000">
                <a:off x="2318040" y="246780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Product, T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4043520" y="3913200"/>
                <a:ext cx="3557160" cy="337320"/>
                <a:chOff x="4043520" y="3913200"/>
                <a:chExt cx="3557160" cy="337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04352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5140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8704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2671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67540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832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4911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89940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072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792600" y="1523880"/>
                <a:ext cx="4076640" cy="2404800"/>
                <a:chOff x="3792600" y="1523880"/>
                <a:chExt cx="4076640" cy="240480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792600" y="1523880"/>
                  <a:ext cx="4073040" cy="2399760"/>
                  <a:chOff x="3792600" y="1523880"/>
                  <a:chExt cx="4073040" cy="23997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92600" y="3923640"/>
                    <a:ext cx="4073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792600" y="3273480"/>
                    <a:ext cx="4073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792600" y="2634840"/>
                    <a:ext cx="4073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792600" y="1995840"/>
                    <a:ext cx="4073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792600" y="1523880"/>
                    <a:ext cx="4073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3795840" y="1531800"/>
                  <a:ext cx="4073400" cy="2396880"/>
                  <a:chOff x="3795840" y="1531800"/>
                  <a:chExt cx="4073400" cy="23968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7958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026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6094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0169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4237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83092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23772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6448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0520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4620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8692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3" name=""/>
            <p:cNvSpPr/>
            <p:nvPr/>
          </p:nvSpPr>
          <p:spPr>
            <a:xfrm>
              <a:off x="3787920" y="1535040"/>
              <a:ext cx="0" cy="23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87920" y="3919680"/>
              <a:ext cx="40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86280" y="4174200"/>
            <a:ext cx="4794120" cy="2268720"/>
            <a:chOff x="3086280" y="4174200"/>
            <a:chExt cx="4794120" cy="2268720"/>
          </a:xfrm>
        </p:grpSpPr>
        <p:grpSp>
          <p:nvGrpSpPr>
            <p:cNvPr id="216" name=""/>
            <p:cNvGrpSpPr/>
            <p:nvPr/>
          </p:nvGrpSpPr>
          <p:grpSpPr>
            <a:xfrm>
              <a:off x="3086280" y="4174200"/>
              <a:ext cx="4794120" cy="2268720"/>
              <a:chOff x="3086280" y="4174200"/>
              <a:chExt cx="4794120" cy="22687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3784680" y="4361040"/>
                <a:ext cx="4095720" cy="1769400"/>
                <a:chOff x="3784680" y="4361040"/>
                <a:chExt cx="4095720" cy="17694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784680" y="51195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84680" y="4864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84680" y="4612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4680" y="43610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84680" y="61304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84680" y="5873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784680" y="5621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84680" y="5369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400200" y="49356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00200" y="54514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6200000">
                <a:off x="2128320" y="5132160"/>
                <a:ext cx="225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rginal Product, M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3792600" y="4367160"/>
                <a:ext cx="4083120" cy="1747800"/>
                <a:chOff x="3792600" y="4367160"/>
                <a:chExt cx="4083120" cy="17478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79260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00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608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01660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4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32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4060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648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056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67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87572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046760" y="6105600"/>
                <a:ext cx="3557160" cy="337320"/>
                <a:chOff x="4046760" y="6105600"/>
                <a:chExt cx="3557160" cy="3373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04676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5464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7368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70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7864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86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4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90264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10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3795840" y="4363920"/>
              <a:ext cx="0" cy="17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87920" y="6129360"/>
              <a:ext cx="40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797280" y="5118120"/>
            <a:ext cx="3060720" cy="1270080"/>
          </a:xfrm>
          <a:custGeom>
            <a:avLst/>
            <a:gdLst/>
            <a:ahLst/>
            <a:rect l="l" t="t" r="r" b="b"/>
            <a:pathLst>
              <a:path w="1928" h="800">
                <a:moveTo>
                  <a:pt x="0" y="632"/>
                </a:moveTo>
                <a:lnTo>
                  <a:pt x="128" y="316"/>
                </a:lnTo>
                <a:lnTo>
                  <a:pt x="640" y="0"/>
                </a:lnTo>
                <a:lnTo>
                  <a:pt x="1928" y="800"/>
                </a:ln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3760" y="5246640"/>
            <a:ext cx="3365280" cy="868320"/>
          </a:xfrm>
          <a:custGeom>
            <a:avLst/>
            <a:gdLst/>
            <a:ahLst/>
            <a:rect l="l" t="t" r="r" b="b"/>
            <a:pathLst>
              <a:path w="2120" h="547">
                <a:moveTo>
                  <a:pt x="0" y="547"/>
                </a:moveTo>
                <a:cubicBezTo>
                  <a:pt x="178" y="340"/>
                  <a:pt x="355" y="134"/>
                  <a:pt x="632" y="67"/>
                </a:cubicBezTo>
                <a:cubicBezTo>
                  <a:pt x="909" y="0"/>
                  <a:pt x="1416" y="110"/>
                  <a:pt x="1664" y="143"/>
                </a:cubicBezTo>
                <a:cubicBezTo>
                  <a:pt x="1912" y="176"/>
                  <a:pt x="2044" y="243"/>
                  <a:pt x="2120" y="263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90800" y="1965240"/>
            <a:ext cx="3283200" cy="1946520"/>
          </a:xfrm>
          <a:custGeom>
            <a:avLst/>
            <a:gdLst/>
            <a:ahLst/>
            <a:rect l="l" t="t" r="r" b="b"/>
            <a:pathLst>
              <a:path w="2068" h="1226">
                <a:moveTo>
                  <a:pt x="0" y="1226"/>
                </a:moveTo>
                <a:cubicBezTo>
                  <a:pt x="89" y="1169"/>
                  <a:pt x="178" y="1113"/>
                  <a:pt x="264" y="1046"/>
                </a:cubicBezTo>
                <a:cubicBezTo>
                  <a:pt x="350" y="979"/>
                  <a:pt x="434" y="919"/>
                  <a:pt x="520" y="822"/>
                </a:cubicBezTo>
                <a:cubicBezTo>
                  <a:pt x="606" y="725"/>
                  <a:pt x="693" y="571"/>
                  <a:pt x="780" y="466"/>
                </a:cubicBezTo>
                <a:cubicBezTo>
                  <a:pt x="867" y="361"/>
                  <a:pt x="912" y="269"/>
                  <a:pt x="1040" y="194"/>
                </a:cubicBezTo>
                <a:cubicBezTo>
                  <a:pt x="1168" y="119"/>
                  <a:pt x="1377" y="36"/>
                  <a:pt x="1548" y="18"/>
                </a:cubicBezTo>
                <a:cubicBezTo>
                  <a:pt x="1719" y="0"/>
                  <a:pt x="1893" y="43"/>
                  <a:pt x="2068" y="86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6760" y="19540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7240" y="6310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11440" y="5516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8040" y="4471920"/>
            <a:ext cx="107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02920" y="4479840"/>
            <a:ext cx="12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05360" y="4476600"/>
            <a:ext cx="9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209840" y="3974760"/>
            <a:ext cx="195480" cy="973080"/>
          </a:xfrm>
          <a:custGeom>
            <a:avLst/>
            <a:gdLst>
              <a:gd name="textAreaLeft" fmla="*/ 124920 w 195480"/>
              <a:gd name="textAreaRight" fmla="*/ 195840 w 195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518080" y="3669840"/>
            <a:ext cx="195480" cy="1582920"/>
          </a:xfrm>
          <a:custGeom>
            <a:avLst/>
            <a:gdLst>
              <a:gd name="textAreaLeft" fmla="*/ 124920 w 195480"/>
              <a:gd name="textAreaRight" fmla="*/ 195840 w 19548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057800" y="3749040"/>
            <a:ext cx="195480" cy="1424160"/>
          </a:xfrm>
          <a:custGeom>
            <a:avLst/>
            <a:gdLst>
              <a:gd name="textAreaLeft" fmla="*/ 124920 w 195480"/>
              <a:gd name="textAreaRight" fmla="*/ 195840 w 195480"/>
              <a:gd name="textAreaTop" fmla="*/ 37080 h 1424160"/>
              <a:gd name="textAreaBottom" fmla="*/ 1387080 h 142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146440" y="5929200"/>
            <a:ext cx="717120" cy="694440"/>
            <a:chOff x="8146440" y="5929200"/>
            <a:chExt cx="717120" cy="694440"/>
          </a:xfrm>
        </p:grpSpPr>
        <p:pic>
          <p:nvPicPr>
            <p:cNvPr id="26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98000" y="592920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>
              <a:hlinkClick r:id="rId3"/>
            </p:cNvPr>
            <p:cNvSpPr/>
            <p:nvPr/>
          </p:nvSpPr>
          <p:spPr>
            <a:xfrm>
              <a:off x="8146440" y="63165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2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52120" y="745920"/>
            <a:ext cx="7086600" cy="57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Fixed Costs</a:t>
            </a:r>
            <a:endParaRPr b="1" lang="en-US" sz="6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Variable Costs</a:t>
            </a:r>
            <a:endParaRPr b="1" lang="en-US" sz="6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Total Cost</a:t>
            </a:r>
            <a:endParaRPr b="1" lang="en-US" sz="6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C = TFC + TVC</a:t>
            </a:r>
            <a:endParaRPr b="1" lang="en-US" sz="6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52120" y="746280"/>
            <a:ext cx="70866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er-Unit or Average Cost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verage Fixed Cost (AFC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verage Variable Cost (AVC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verage Total Cost (ATC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arginal Cost (MC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49080" y="3592440"/>
            <a:ext cx="2346120" cy="1056240"/>
            <a:chOff x="2449080" y="3592440"/>
            <a:chExt cx="2346120" cy="1056240"/>
          </a:xfrm>
        </p:grpSpPr>
        <p:sp>
          <p:nvSpPr>
            <p:cNvPr id="273" name=""/>
            <p:cNvSpPr/>
            <p:nvPr/>
          </p:nvSpPr>
          <p:spPr>
            <a:xfrm>
              <a:off x="2449080" y="3851280"/>
              <a:ext cx="136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Arial"/>
                </a:rPr>
                <a:t>AFC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23560" y="3592440"/>
              <a:ext cx="9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F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0440" y="4067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64240" y="4137120"/>
              <a:ext cx="89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406840" y="3592440"/>
            <a:ext cx="2369160" cy="1056240"/>
            <a:chOff x="5406840" y="3592440"/>
            <a:chExt cx="2369160" cy="1056240"/>
          </a:xfrm>
        </p:grpSpPr>
        <p:sp>
          <p:nvSpPr>
            <p:cNvPr id="278" name=""/>
            <p:cNvSpPr/>
            <p:nvPr/>
          </p:nvSpPr>
          <p:spPr>
            <a:xfrm>
              <a:off x="5406840" y="3851280"/>
              <a:ext cx="139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Arial"/>
                </a:rPr>
                <a:t>AVC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1320" y="359244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V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17840" y="4067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21640" y="4137120"/>
              <a:ext cx="89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756880" y="4556160"/>
            <a:ext cx="5017680" cy="1055880"/>
            <a:chOff x="2756880" y="4556160"/>
            <a:chExt cx="5017680" cy="1055880"/>
          </a:xfrm>
        </p:grpSpPr>
        <p:grpSp>
          <p:nvGrpSpPr>
            <p:cNvPr id="283" name=""/>
            <p:cNvGrpSpPr/>
            <p:nvPr/>
          </p:nvGrpSpPr>
          <p:grpSpPr>
            <a:xfrm>
              <a:off x="2756880" y="4556160"/>
              <a:ext cx="2286360" cy="1055880"/>
              <a:chOff x="2756880" y="4556160"/>
              <a:chExt cx="2286360" cy="1055880"/>
            </a:xfrm>
          </p:grpSpPr>
          <p:sp>
            <p:nvSpPr>
              <p:cNvPr id="284" name=""/>
              <p:cNvSpPr/>
              <p:nvPr/>
            </p:nvSpPr>
            <p:spPr>
              <a:xfrm>
                <a:off x="2756880" y="4815000"/>
                <a:ext cx="136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990033"/>
                    </a:solidFill>
                    <a:latin typeface="Arial"/>
                  </a:rPr>
                  <a:t>ATC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34680" y="455616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49160" y="50306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51160" y="5100840"/>
                <a:ext cx="89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083920" y="4794120"/>
              <a:ext cx="26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 AFC + AV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78080" y="5489640"/>
            <a:ext cx="4177800" cy="1056240"/>
            <a:chOff x="3178080" y="5489640"/>
            <a:chExt cx="4177800" cy="1056240"/>
          </a:xfrm>
        </p:grpSpPr>
        <p:sp>
          <p:nvSpPr>
            <p:cNvPr id="290" name=""/>
            <p:cNvSpPr/>
            <p:nvPr/>
          </p:nvSpPr>
          <p:spPr>
            <a:xfrm>
              <a:off x="3178080" y="574848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Arial"/>
                </a:rPr>
                <a:t>MC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5440" y="5489640"/>
              <a:ext cx="280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hange in T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5964480"/>
              <a:ext cx="257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hange in 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9920" y="6034320"/>
              <a:ext cx="27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7881200">
            <a:off x="6870960" y="50684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Graphic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indefinite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indefinite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MHE</cp:lastModifiedBy>
  <dcterms:modified xsi:type="dcterms:W3CDTF">2006-10-11T19:04:01Z</dcterms:modified>
  <cp:revision>182</cp:revision>
  <dc:subject>McConnell-Brue Economics</dc:subject>
  <dc:title>Chapter 20</dc:title>
</cp:coreProperties>
</file>